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23.png" ContentType="image/png"/>
  <Override PartName="/ppt/media/image4.png" ContentType="image/png"/>
  <Override PartName="/ppt/media/image25.jpeg" ContentType="image/jpeg"/>
  <Override PartName="/ppt/media/image2.jpeg" ContentType="image/jpeg"/>
  <Override PartName="/ppt/media/image19.jpeg" ContentType="image/jpeg"/>
  <Override PartName="/ppt/media/image1.jpeg" ContentType="image/jpeg"/>
  <Override PartName="/ppt/media/image3.jpeg" ContentType="image/jpeg"/>
  <Override PartName="/ppt/media/image24.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20880" y="745920"/>
            <a:ext cx="49672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3A327-D82A-4EF9-BB42-82692B6652C8}"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E8DA-750B-4349-81BB-B68A5C4745F7}"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920880" y="746280"/>
            <a:ext cx="4967280" cy="3725640"/>
          </a:xfrm>
          <a:prstGeom prst="rect">
            <a:avLst/>
          </a:prstGeom>
          <a:ln w="0">
            <a:noFill/>
          </a:ln>
        </p:spPr>
      </p:sp>
      <p:sp>
        <p:nvSpPr>
          <p:cNvPr id="12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C0EA7-DDC2-4F1E-AA90-E5CD1F22A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26872-D39A-463F-A229-3CB3F41FE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9A7B8-7BDC-495D-8EA7-E04982BA7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21BA6-D1E0-4E6D-B2BE-1574027F0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5918C-0CB2-46DF-B1BE-DA1A3FA6F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8AF05-C87B-4B58-8E87-0C5FD9D11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EE8F8-4936-4312-8C32-D5EB6DF66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94AD5-6894-4BCF-8B60-993199184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0BA3C-380C-48AF-AA7C-20CEDD4C0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66E28-F7FD-4627-BF48-A2147188F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997D4-C798-4078-9910-EEF5B997D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23462-2043-42AB-A9C0-67138830C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C1AD7-5CE9-479A-8B58-EB787C8353BB}" type="slidenum">
              <a:rPr b="0" lang="nb-N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img.qj.net/uploads/articles_module/63310/kelloggs_logo_qjpreviewth.gif" TargetMode="External"/><Relationship Id="rId3" Type="http://schemas.openxmlformats.org/officeDocument/2006/relationships/image" Target="../media/image4.png"/><Relationship Id="rId4" Type="http://schemas.openxmlformats.org/officeDocument/2006/relationships/hyperlink" Target="http://images.google.no/imgres?imgurl=http://souljerky.com/_media/AdidasLogo.jpg&amp;imgrefurl=http://souljerky.com/articles/adidas_play_yoga.html&amp;usg=__WjlvdKxa0QtwbXQGeKOJj3IANUU=&amp;h=320&amp;w=320&amp;sz=11&amp;hl=nn&amp;start=2&amp;tbnid=_FHD_fXGw9UIvM:&amp;tbnh=118&amp;tbnw=118&amp;prev=/images%3Fq%3Dlogo%2B%2522adidas%2522%26as_st%3Dy%26hl%3Dnn%26sa%3DG" TargetMode="External"/><Relationship Id="rId5" Type="http://schemas.openxmlformats.org/officeDocument/2006/relationships/image" Target="../media/image5.jpeg"/><Relationship Id="rId6" Type="http://schemas.openxmlformats.org/officeDocument/2006/relationships/hyperlink" Target="http://images.google.no/imgres?imgurl=http://www.blogcdn.com/www.walletpop.com/blog/media/2008/11/burger-king-logo.jpg&amp;imgrefurl=http://www.walletpop.com/blog/2008/11/21/burger-king-loses-wallets-to-gain-customers/&amp;usg=__5hTw_IdSNn8Ax-cbMCM2fwTAutU=&amp;h=365&amp;w=365&amp;sz=18&amp;hl=nn&amp;start=1&amp;tbnid=r0MQyj_qzZBM8M:&amp;tbnh=121&amp;tbnw=121&amp;prev=/images%3Fq%3Dlogo%2Bburger%2Bking%26as_st%3Dy%26hl%3Dnn%26sa%3DG" TargetMode="External"/><Relationship Id="rId7" Type="http://schemas.openxmlformats.org/officeDocument/2006/relationships/image" Target="../media/image6.jpeg"/><Relationship Id="rId8" Type="http://schemas.openxmlformats.org/officeDocument/2006/relationships/hyperlink" Target="http://images.google.no/imgres?imgurl=http://www1.hilton.com/brand/hi/media/images/logos/logo_300x300.gif&amp;imgrefurl=http://www1.hilton.com/en_US/hi/hotel/SNAOCHF-Hilton-Irvine-Orange-County-Airport-California/videoTour.do&amp;usg=__GsigSyVgWT-bUkF2vo0i-yOfxf0=&amp;h=300&amp;w=300&amp;sz=4&amp;hl=nn&amp;start=1&amp;tbnid=bOhswDoV1KvvlM:&amp;tbnh=116&amp;tbnw=116&amp;prev=/images%3Fq%3Dlogo%2Bhotel%2Bhilton%26as_st%3Dy%26hl%3Dnn%26sa%3DG" TargetMode="External"/><Relationship Id="rId9" Type="http://schemas.openxmlformats.org/officeDocument/2006/relationships/image" Target="../media/image7.jpeg"/><Relationship Id="rId10" Type="http://schemas.openxmlformats.org/officeDocument/2006/relationships/hyperlink" Target="http://images.google.no/imgres?imgurl=http://www.splendicity.com/hotmamadaily/files/2007/07/logo_loreal.jpg&amp;imgrefurl=http://www.splendicity.com/hotmamadaily/oh-really-loreal-paris/&amp;usg=__Fm-EChCjkp3RdeiZyB1XmalWNYg=&amp;h=225&amp;w=300&amp;sz=13&amp;hl=nn&amp;start=2&amp;tbnid=mQZMK-8d8nzJTM:&amp;tbnh=87&amp;tbnw=116&amp;prev=/images%3Fq%3Dlogo%2Bloreal%26as_st%3Dy%26hl%3Dnn" TargetMode="External"/><Relationship Id="rId11" Type="http://schemas.openxmlformats.org/officeDocument/2006/relationships/image" Target="../media/image8.jpeg"/><Relationship Id="rId12" Type="http://schemas.openxmlformats.org/officeDocument/2006/relationships/hyperlink" Target="http://images.google.no/imgres?imgurl=http://api.ning.com/files/8wsCfYsVpx4NeSt7qEmC0VwLyZmsL2cMYwxNbDwE-bRtvb3flD1ak7umZcKFFXnnKxmq1SCeJZMwQ6Qm8dPqj3yE1vhdL*cJ/AppleMacintoshLogo2.jpg&amp;imgrefurl=http://www.myapplespace.com/xn/detail/u_2dtne7q8hg18d&amp;usg=__TSy5HbV6jPCiKCVVGSlfTTuFWVI=&amp;h=1183&amp;w=1095&amp;sz=58&amp;hl=nn&amp;start=10&amp;tbnid=OgJevYDuabCM4M:&amp;tbnh=150&amp;tbnw=139&amp;prev=/images%3Fq%3Dlogo%2Bapple%26as_st%3Dy%26hl%3Dnn" TargetMode="External"/><Relationship Id="rId13" Type="http://schemas.openxmlformats.org/officeDocument/2006/relationships/image" Target="../media/image9.jpeg"/><Relationship Id="rId14" Type="http://schemas.openxmlformats.org/officeDocument/2006/relationships/hyperlink" Target="http://images.google.no/imgres?imgurl=http://www.jamzmedia.com/images/logo%2520pepsi.jpg&amp;imgrefurl=http://www.jamzmedia.com/elements_pics.htm&amp;usg=__75nSMqEp923X6RDOgWkqkZ9c7I8=&amp;h=313&amp;w=450&amp;sz=71&amp;hl=nn&amp;start=1&amp;tbnid=k7mrHAwRK0Qe8M:&amp;tbnh=88&amp;tbnw=127&amp;prev=/images%3Fq%3Dlogo%2Bpepsi%26as_st%3Dy%26hl%3Dnn" TargetMode="External"/><Relationship Id="rId15" Type="http://schemas.openxmlformats.org/officeDocument/2006/relationships/image" Target="../media/image10.jpeg"/><Relationship Id="rId16" Type="http://schemas.openxmlformats.org/officeDocument/2006/relationships/hyperlink" Target="http://images.google.no/imgres?imgurl=http://www.noldus.com/mb2005/logo_j_and_j.jpg&amp;imgrefurl=http://www.noldus.com/mb2005/mb2005.html&amp;usg=__Cm3xLQG9tsSSnLWb4GiLxvXt4mA=&amp;h=304&amp;w=458&amp;sz=79&amp;hl=nn&amp;start=30&amp;tbnid=OKE-1yzGfwZUtM:&amp;tbnh=85&amp;tbnw=128&amp;prev=/images%3Fq%3Dlogo%2Bjohnsons%26as_st%3Dy%26ndsp%3D20%26hl%3Dnn%26sa%3DN%26start%3D20" TargetMode="External"/><Relationship Id="rId17" Type="http://schemas.openxmlformats.org/officeDocument/2006/relationships/image" Target="../media/image11.jpeg"/><Relationship Id="rId18" Type="http://schemas.openxmlformats.org/officeDocument/2006/relationships/hyperlink" Target="http://images.google.no/imgres?imgurl=http://german-autohaus.com/files/QuickSiteImages/logo_mercedes.jpg&amp;imgrefurl=http://german-autohaus.com/&amp;usg=__TThuXwGyqliddgWpWtJKiqmG7LE=&amp;h=305&amp;w=260&amp;sz=12&amp;hl=nn&amp;start=12&amp;tbnid=MZwz6r-osksOlM:&amp;tbnh=116&amp;tbnw=99&amp;prev=/images%3Fq%3Dlogo%2Bmercedes%26as_st%3Dy%26hl%3Dnn" TargetMode="External"/><Relationship Id="rId19" Type="http://schemas.openxmlformats.org/officeDocument/2006/relationships/image" Target="../media/image12.jpeg"/><Relationship Id="rId20" Type="http://schemas.openxmlformats.org/officeDocument/2006/relationships/hyperlink" Target="http://images.google.no/imgres?imgurl=http://www.brandsoftheworld.com/brands/0000/3733/brand.gif&amp;imgrefurl=http://www.brandsoftheworld.com/search/82784197/3733.html&amp;usg=__r0IgU1nwcrMtmqS4TMQm9EnIBf0=&amp;h=200&amp;w=200&amp;sz=2&amp;hl=nn&amp;start=8&amp;tbnid=VEaqhjxNT8GMTM:&amp;tbnh=104&amp;tbnw=104&amp;prev=/images%3Fq%3Dlogo%2Byves%2Blaurent%26as_st%3Dy%26hl%3Dnn" TargetMode="External"/><Relationship Id="rId21" Type="http://schemas.openxmlformats.org/officeDocument/2006/relationships/image" Target="../media/image13.jpeg"/><Relationship Id="rId22" Type="http://schemas.openxmlformats.org/officeDocument/2006/relationships/hyperlink" Target="http://images.google.no/imgres?imgurl=http://www.isdykk.no/mSpider/_data/bildearkiv/m1172612271.jpg&amp;imgrefurl=http://www.isdykk.no/index.php%3Fmodul%3D25&amp;usg=__FWmtVz3k15NZFp6Ms9UZ4jU2mcY=&amp;h=500&amp;w=500&amp;sz=58&amp;hl=nn&amp;start=1&amp;tbnid=-1C9oPt3Gl2m2M:&amp;tbnh=130&amp;tbnw=130&amp;prev=/images%3Fq%3Dlogo%2Bdolly%2Bdimple%26as_st%3Dy%26hl%3Dnn" TargetMode="External"/><Relationship Id="rId23" Type="http://schemas.openxmlformats.org/officeDocument/2006/relationships/image" Target="../media/image14.jpeg"/><Relationship Id="rId24" Type="http://schemas.openxmlformats.org/officeDocument/2006/relationships/hyperlink" Target="http://images.google.no/imgres?imgurl=http://myownspace.fr/myownpic/715/lidl-logo.gif&amp;imgrefurl=http://myownspace.fr/myownfriend.php%3Fgo%3D792&amp;usg=__HYZAKZ1rUBe0b1quHPnRnc67puA=&amp;h=305&amp;w=308&amp;sz=7&amp;hl=nn&amp;start=1&amp;tbnid=ZFTFk0zGsRVdFM:&amp;tbnh=116&amp;tbnw=117&amp;prev=/images%3Fq%3Dlogo%2Blidl%26as_st%3Dy%26hl%3Dnn" TargetMode="External"/><Relationship Id="rId25" Type="http://schemas.openxmlformats.org/officeDocument/2006/relationships/image" Target="../media/image15.jpeg"/><Relationship Id="rId26" Type="http://schemas.openxmlformats.org/officeDocument/2006/relationships/hyperlink" Target="http://images.google.no/imgres?imgurl=http://www.runpacers.com/images/logo_nike.jpg&amp;imgrefurl=http://www.runpacers.com/Shoes/nike.htm&amp;usg=__MAqsHGv5SWfj5hWl3CNMAmDvQWY=&amp;h=297&amp;w=510&amp;sz=20&amp;hl=nn&amp;start=1&amp;tbnid=1G1ddYaW-3318M:&amp;tbnh=76&amp;tbnw=131&amp;prev=/images%3Fq%3Dlogo%2Bnike%26as_st%3Dy%26hl%3Dnn" TargetMode="External"/><Relationship Id="rId27" Type="http://schemas.openxmlformats.org/officeDocument/2006/relationships/image" Target="../media/image16.jpeg"/><Relationship Id="rId28" Type="http://schemas.openxmlformats.org/officeDocument/2006/relationships/hyperlink" Target="http://images.google.no/imgres?imgurl=http://api.ning.com/files/8qKmChITJaPALLFidCH2oiCOMbWvqbf6*GDL4mBruI15AepG3DDq9PGxD8x8HK0SDCv1qckGpwZ9BLY*WFnGkbniVQyPGdsC/img_31463_canon_logo.jpg&amp;imgrefurl=http://www.louisvillephoto.org/xn/detail/u_313dk0qe346m9&amp;usg=__zvSBLa-yKcMcXILBi2exTim1R5w=&amp;h=560&amp;w=560&amp;sz=22&amp;hl=nn&amp;start=2&amp;tbnid=rMNlbxoHzMAeaM:&amp;tbnh=133&amp;tbnw=133&amp;prev=/images%3Fq%3Dlogo%2Bcannon%26as_st%3Dy%26hl%3Dnn" TargetMode="External"/><Relationship Id="rId29" Type="http://schemas.openxmlformats.org/officeDocument/2006/relationships/image" Target="../media/image17.jpeg"/><Relationship Id="rId30" Type="http://schemas.openxmlformats.org/officeDocument/2006/relationships/hyperlink" Target="http://images.google.no/imgres?imgurl=http://i-mode.o2.co.uk/images/logo_cnn2.gif&amp;imgrefurl=http://i-mode.o2.co.uk/content_news_weather.html&amp;usg=__n1W3lg55lx8Hd3i1HxPV5QGE-Vk=&amp;h=123&amp;w=128&amp;sz=4&amp;hl=nn&amp;start=2&amp;tbnid=Qm9N1QQBSDtCgM:&amp;tbnh=87&amp;tbnw=91&amp;prev=/images%3Fq%3Dlogo%2Bcnn%26as_st%3Dy%26hl%3Dnn" TargetMode="External"/><Relationship Id="rId31" Type="http://schemas.openxmlformats.org/officeDocument/2006/relationships/image" Target="../media/image18.jpeg"/><Relationship Id="rId32" Type="http://schemas.openxmlformats.org/officeDocument/2006/relationships/hyperlink" Target="http://images.google.no/imgres?imgurl=http://www.pycomall.com/images/P/Disney_Pictures_logo.jpg&amp;imgrefurl=http://www.pycomall.com/product.php%3Fproductid%3D16852&amp;usg=__4_C88SE0wnUziH1PzymPWMKC5rg=&amp;h=400&amp;w=400&amp;sz=51&amp;hl=nn&amp;start=1&amp;tbnid=E_Tl4KVRUQcDQM:&amp;tbnh=124&amp;tbnw=124&amp;prev=/images%3Fq%3Dlogos%2Bwalt%2Bdisney%26as_st%3Dy%26hl%3Dnn" TargetMode="External"/><Relationship Id="rId33" Type="http://schemas.openxmlformats.org/officeDocument/2006/relationships/image" Target="../media/image19.jpeg"/><Relationship Id="rId34" Type="http://schemas.openxmlformats.org/officeDocument/2006/relationships/hyperlink" Target="http://images.google.no/imgres?imgurl=http://www.ameinfo.com/images/press/panasonic_logo.jpg&amp;imgrefurl=http://www.ameinfo.com/168196.html&amp;usg=__WA0ywKdYpbEpQ3wYELmO369MM5s=&amp;h=110&amp;w=168&amp;sz=3&amp;hl=nn&amp;start=3&amp;tbnid=JI8LoN0Xyts54M:&amp;tbnh=65&amp;tbnw=99&amp;prev=/images%3Fq%3Dlogos%2Bwalt%2Bpanasonic%26as_st%3Dy%26hl%3Dnn" TargetMode="External"/><Relationship Id="rId35" Type="http://schemas.openxmlformats.org/officeDocument/2006/relationships/image" Target="../media/image20.jpeg"/><Relationship Id="rId36" Type="http://schemas.openxmlformats.org/officeDocument/2006/relationships/image" Target="../media/image21.jpeg"/><Relationship Id="rId3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000000"/>
                </a:solidFill>
                <a:latin typeface="Book Antiqua"/>
              </a:rPr>
              <a:t>Globalization</a:t>
            </a:r>
            <a:endParaRPr b="0" lang="en-US" sz="4400" spc="-1" strike="noStrike">
              <a:solidFill>
                <a:srgbClr val="000000"/>
              </a:solidFill>
              <a:latin typeface="Arial"/>
            </a:endParaRPr>
          </a:p>
        </p:txBody>
      </p:sp>
      <p:pic>
        <p:nvPicPr>
          <p:cNvPr id="49" name="Picture 5" descr="globalization3"/>
          <p:cNvPicPr/>
          <p:nvPr/>
        </p:nvPicPr>
        <p:blipFill>
          <a:blip r:embed="rId1"/>
          <a:stretch/>
        </p:blipFill>
        <p:spPr>
          <a:xfrm>
            <a:off x="1295280" y="1905120"/>
            <a:ext cx="632484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nternational Organizations Aiding Economic Globalization</a:t>
            </a:r>
            <a:endParaRPr b="0" lang="en-US" sz="2400" spc="-1" strike="noStrike">
              <a:solidFill>
                <a:srgbClr val="000000"/>
              </a:solidFill>
              <a:latin typeface="Arial"/>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International business is aided b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a number of internationa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organiza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World Trade Organization (WTO)</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e International Monetary Fund (IMF)</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World Bank</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hese international organizations help smooth the way for international business</a:t>
            </a:r>
            <a:endParaRPr b="0" lang="en-US" sz="2000" spc="-1" strike="noStrike">
              <a:solidFill>
                <a:srgbClr val="000000"/>
              </a:solidFill>
              <a:latin typeface="Arial"/>
            </a:endParaRPr>
          </a:p>
        </p:txBody>
      </p:sp>
      <p:pic>
        <p:nvPicPr>
          <p:cNvPr id="109" name="Picture 6" descr="WTO1-Color_L"/>
          <p:cNvPicPr/>
          <p:nvPr/>
        </p:nvPicPr>
        <p:blipFill>
          <a:blip r:embed="rId1"/>
          <a:stretch/>
        </p:blipFill>
        <p:spPr>
          <a:xfrm>
            <a:off x="4648320" y="2149560"/>
            <a:ext cx="4038480" cy="342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Anti-Globalization Movement</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38480" cy="4525920"/>
          </a:xfrm>
          <a:prstGeom prst="rect">
            <a:avLst/>
          </a:prstGeom>
          <a:noFill/>
          <a:ln w="0">
            <a:noFill/>
          </a:ln>
        </p:spPr>
        <p:txBody>
          <a:bodyPr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Globalization has set off hostile reactions among many people around the world</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ese people are often referred to as the ”anti-globalization movement”</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is is a misleading term, however, as most of these people are not against bringing the peoples of the world closer together. On the contrary these work hard to unite people from all over the world to:</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Oppose the effects of an international economic system which they believe is destructive</a:t>
            </a:r>
            <a:endParaRPr b="0" lang="en-US" sz="1600" spc="-1" strike="noStrike">
              <a:solidFill>
                <a:srgbClr val="000000"/>
              </a:solidFill>
              <a:latin typeface="Arial"/>
            </a:endParaRPr>
          </a:p>
        </p:txBody>
      </p:sp>
      <p:pic>
        <p:nvPicPr>
          <p:cNvPr id="112" name="Picture 6" descr="ALT TAG"/>
          <p:cNvPicPr/>
          <p:nvPr/>
        </p:nvPicPr>
        <p:blipFill>
          <a:blip r:embed="rId1"/>
          <a:stretch/>
        </p:blipFill>
        <p:spPr>
          <a:xfrm>
            <a:off x="4952880" y="1447920"/>
            <a:ext cx="3429000" cy="464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Fears Held by Anti-Globalization Critics</a:t>
            </a:r>
            <a:endParaRPr b="0" lang="en-US" sz="32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fontScale="96000"/>
          </a:bodyPr>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Local cultures and languages are destroyed by an international corporate consumer culture which often uses English as a lingua franca</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The un-ending and explosive economic growth is badly damaging the ecology of the planet and using up resources at the expense of local populations and future generations</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The gap between the rich and poor nations is widening because international companies force weaker and poorer nations to accept trade conditions that favour the rich</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That WTO, IMF and the World Bank create trade conditions that benefit rich countries at the expense of individuals in the poorer countries</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Cheap labour</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Child labour</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Long working hours</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Bad working conditions</a:t>
            </a:r>
            <a:endParaRPr b="0" lang="en-US" sz="1400" spc="-1" strike="noStrike">
              <a:solidFill>
                <a:srgbClr val="000000"/>
              </a:solidFill>
              <a:latin typeface="Arial"/>
            </a:endParaRPr>
          </a:p>
        </p:txBody>
      </p:sp>
      <p:pic>
        <p:nvPicPr>
          <p:cNvPr id="115" name="Picture 6" descr="wto-protest-2"/>
          <p:cNvPicPr/>
          <p:nvPr/>
        </p:nvPicPr>
        <p:blipFill>
          <a:blip r:embed="rId1"/>
          <a:stretch/>
        </p:blipFill>
        <p:spPr>
          <a:xfrm>
            <a:off x="5172120" y="1600200"/>
            <a:ext cx="299088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Defenders of Globalizatio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38480" cy="452592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Defenders of globalization argue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that:</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Since 1985 the number of people living on less than 1 dollar a day has been halved</a:t>
            </a:r>
            <a:endParaRPr b="0" lang="en-US" sz="1600" spc="-1" strike="noStrike">
              <a:solidFill>
                <a:srgbClr val="000000"/>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Life expectancy in the developing wolrd has doubled since WWII</a:t>
            </a:r>
            <a:endParaRPr b="0" lang="en-US" sz="1600" spc="-1" strike="noStrike">
              <a:solidFill>
                <a:srgbClr val="000000"/>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In 1960 56% of the world’s population lived in nations with less than 2200 calories of food per day. Today it is only 10%</a:t>
            </a:r>
            <a:endParaRPr b="0" lang="en-US" sz="1600" spc="-1" strike="noStrike">
              <a:solidFill>
                <a:srgbClr val="000000"/>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Between 1950 and 1999, the number of people in the world who can read and write increased from 52% to 80%</a:t>
            </a:r>
            <a:endParaRPr b="0" lang="en-US" sz="1600" spc="-1" strike="noStrike">
              <a:solidFill>
                <a:srgbClr val="000000"/>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Differences in income in the world have been reduced over the past decades</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8" name="Picture 7" descr="About_us1_203203532_std"/>
          <p:cNvPicPr/>
          <p:nvPr/>
        </p:nvPicPr>
        <p:blipFill>
          <a:blip r:embed="rId1"/>
          <a:stretch/>
        </p:blipFill>
        <p:spPr>
          <a:xfrm>
            <a:off x="4648320" y="2347920"/>
            <a:ext cx="4038480" cy="30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Arial"/>
              </a:rPr>
              <a:t>The Financial Crisis – Now What?</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anchor="t">
            <a:normAutofit fontScale="97000"/>
          </a:bodyPr>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conomic globalization to blame?</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re restrictions put on trade between nations?</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tectionism </a:t>
            </a:r>
            <a:endParaRPr b="0" lang="en-US" sz="1400" spc="-1" strike="noStrike">
              <a:solidFill>
                <a:srgbClr val="000000"/>
              </a:solidFill>
              <a:latin typeface="Arial"/>
            </a:endParaRPr>
          </a:p>
          <a:p>
            <a:pPr lvl="1" marL="720720" indent="-27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subsidies on locally produced commodities?</a:t>
            </a:r>
            <a:endParaRPr b="0" lang="en-US" sz="1400" spc="-1" strike="noStrike">
              <a:solidFill>
                <a:srgbClr val="000000"/>
              </a:solidFill>
              <a:latin typeface="Arial"/>
            </a:endParaRPr>
          </a:p>
          <a:p>
            <a:pPr lvl="1" marL="720720" indent="-27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taxes on imported commodities?</a:t>
            </a:r>
            <a:endParaRPr b="0" lang="en-US" sz="1400" spc="-1" strike="noStrike">
              <a:solidFill>
                <a:srgbClr val="000000"/>
              </a:solidFill>
              <a:latin typeface="Arial"/>
            </a:endParaRPr>
          </a:p>
          <a:p>
            <a:pPr lvl="1" marL="720720" indent="-27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trictions on imported commodities?</a:t>
            </a:r>
            <a:endParaRPr b="0" lang="en-US" sz="1400" spc="-1" strike="noStrike">
              <a:solidFill>
                <a:srgbClr val="000000"/>
              </a:solidFill>
              <a:latin typeface="Arial"/>
            </a:endParaRPr>
          </a:p>
          <a:p>
            <a:pPr lvl="1" marL="720720" indent="-27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w will this affect developing countries?</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evel of consumption in both developed and developing countries reduced</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sinesses facing bankruptcy</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unemployment around the world </a:t>
            </a:r>
            <a:endParaRPr b="0" lang="en-US" sz="1400" spc="-1" strike="noStrike">
              <a:solidFill>
                <a:srgbClr val="000000"/>
              </a:solidFill>
              <a:latin typeface="Arial"/>
            </a:endParaRPr>
          </a:p>
          <a:p>
            <a:pPr lvl="1" marL="720720" indent="-27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is happening at this very moment in:</a:t>
            </a:r>
            <a:endParaRPr b="0" lang="en-US" sz="1400" spc="-1" strike="noStrike">
              <a:solidFill>
                <a:srgbClr val="000000"/>
              </a:solidFill>
              <a:latin typeface="Arial"/>
            </a:endParaRPr>
          </a:p>
          <a:p>
            <a:pPr lvl="2" marL="1108440" indent="-2214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way, Iceland, USA, and Asia + many other countries</a:t>
            </a:r>
            <a:endParaRPr b="0" lang="en-US" sz="1200" spc="-1" strike="noStrike">
              <a:solidFill>
                <a:srgbClr val="000000"/>
              </a:solidFill>
              <a:latin typeface="Arial"/>
            </a:endParaRPr>
          </a:p>
        </p:txBody>
      </p:sp>
      <p:pic>
        <p:nvPicPr>
          <p:cNvPr id="121" name="Picture 6" descr="financial-crisis-good"/>
          <p:cNvPicPr/>
          <p:nvPr/>
        </p:nvPicPr>
        <p:blipFill>
          <a:blip r:embed="rId1"/>
          <a:stretch/>
        </p:blipFill>
        <p:spPr>
          <a:xfrm>
            <a:off x="4648320" y="2387520"/>
            <a:ext cx="4038480" cy="294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By Nina Sandström Angelsen</a:t>
            </a:r>
            <a:endParaRPr b="0" lang="en-US" sz="2400" spc="-1" strike="noStrike">
              <a:solidFill>
                <a:srgbClr val="000000"/>
              </a:solidFill>
              <a:latin typeface="Arial"/>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Selbu videregående sk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English Subject Curriculum</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ulture, society and literatu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he aims of the studies are to enable pupils t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laborate on and discuss a number of international and global challeng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hat Is Globalisa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obalization is the process by which the world is becoming increasingly interconnected as a result of:</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ased contact between people and nations throughout the world through various forms of cooperation and exchange such as </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rade </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ultural exchange </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olitical cooperation across national borders</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cie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tc. </a:t>
            </a:r>
            <a:endParaRPr b="0" lang="en-US" sz="9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Globalization is </a:t>
            </a:r>
            <a:r>
              <a:rPr b="0" lang="en-GB" sz="1200" spc="-1" strike="noStrike">
                <a:solidFill>
                  <a:srgbClr val="000000"/>
                </a:solidFill>
                <a:latin typeface="Arial"/>
              </a:rPr>
              <a:t>the result of</a:t>
            </a:r>
            <a:r>
              <a:rPr b="0" lang="nb-NO"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chnology which make it possible for people, goods, money and information and ideas to travel the world much faster than ever before</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d the </a:t>
            </a:r>
            <a:r>
              <a:rPr b="1" lang="en-GB" sz="1000" spc="-1" strike="noStrike">
                <a:solidFill>
                  <a:srgbClr val="000000"/>
                </a:solidFill>
                <a:latin typeface="Arial"/>
              </a:rPr>
              <a:t>liberalisation (1)</a:t>
            </a:r>
            <a:r>
              <a:rPr b="0" lang="en-GB" sz="1000" spc="-1" strike="noStrike">
                <a:solidFill>
                  <a:srgbClr val="000000"/>
                </a:solidFill>
                <a:latin typeface="Arial"/>
              </a:rPr>
              <a:t> of world markets, making it much easier to trade across national boundari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Globalisation has been taking place for hundreds of years, but has speeded up enormously over the last half-century</a:t>
            </a:r>
            <a:endParaRPr b="0" lang="en-US" sz="12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 Liberalization of world markets involves less restrictions on trade</a:t>
            </a:r>
            <a:endParaRPr b="0" lang="en-US" sz="1000" spc="-1" strike="noStrike">
              <a:solidFill>
                <a:srgbClr val="000000"/>
              </a:solidFill>
              <a:latin typeface="Arial"/>
            </a:endParaRPr>
          </a:p>
        </p:txBody>
      </p:sp>
      <p:pic>
        <p:nvPicPr>
          <p:cNvPr id="54" name="Picture 6" descr="globalization"/>
          <p:cNvPicPr/>
          <p:nvPr/>
        </p:nvPicPr>
        <p:blipFill>
          <a:blip r:embed="rId1"/>
          <a:stretch/>
        </p:blipFill>
        <p:spPr>
          <a:xfrm>
            <a:off x="4943520" y="2138400"/>
            <a:ext cx="3448080" cy="3448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Factors Influencing Globalisation</a:t>
            </a:r>
            <a:r>
              <a:rPr b="0" lang="nb-NO"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actors influencing globalisation include:</a:t>
            </a:r>
            <a:br>
              <a:rPr sz="1400"/>
            </a:br>
            <a:endParaRPr b="0" lang="en-US" sz="14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200" spc="-1" strike="noStrike">
                <a:solidFill>
                  <a:srgbClr val="000000"/>
                </a:solidFill>
                <a:latin typeface="Arial"/>
              </a:rPr>
              <a:t>Communications:</a:t>
            </a:r>
            <a:r>
              <a:rPr b="0" lang="en-GB" sz="1200" spc="-1" strike="noStrike">
                <a:solidFill>
                  <a:srgbClr val="000000"/>
                </a:solidFill>
                <a:latin typeface="Arial"/>
              </a:rPr>
              <a:t> </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ble TV, personal computers, telephony and the Internet have created a global village, tying the world closer together. </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sinesses in the western world can have a call centre in India answering calls from western customers.</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Transport</a:t>
            </a:r>
            <a:r>
              <a:rPr b="0" lang="en-GB" sz="1200" spc="-1" strike="noStrike">
                <a:solidFill>
                  <a:srgbClr val="000000"/>
                </a:solidFill>
                <a:latin typeface="Arial"/>
              </a:rPr>
              <a:t> </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s become cheap and quick. </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especially in the western civilization, travel all over the world</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from other countries can travel to the west to seek better-paid jobs. </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sinesses can more easily ship products and raw materials all over the world - making products and services from all over the globe available to customers.</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Trade liberalisation: </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ments around the world have relaxed laws restricting trade and foreign investment</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ies in the developing world have opened up their countries to western businesses and investment</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governments offer grants and tax incentives to persuade foreign companies to invest in their country. </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dea is that there should be no restrictions on trade between countries is known as </a:t>
            </a:r>
            <a:r>
              <a:rPr b="1" lang="en-GB" sz="1200" spc="-1" strike="noStrike">
                <a:solidFill>
                  <a:srgbClr val="000000"/>
                </a:solidFill>
                <a:latin typeface="Arial"/>
              </a:rPr>
              <a:t>free trade </a:t>
            </a:r>
            <a:r>
              <a:rPr b="0" lang="en-GB" sz="1200" spc="-1" strike="noStrike">
                <a:solidFill>
                  <a:srgbClr val="000000"/>
                </a:solidFill>
                <a:latin typeface="Arial"/>
              </a:rPr>
              <a:t>or</a:t>
            </a:r>
            <a:r>
              <a:rPr b="1" lang="en-GB" sz="1200" spc="-1" strike="noStrike">
                <a:solidFill>
                  <a:srgbClr val="000000"/>
                </a:solidFill>
                <a:latin typeface="Arial"/>
              </a:rPr>
              <a:t> free market capitalism.</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ree trade </a:t>
            </a:r>
            <a:r>
              <a:rPr b="0" lang="en-GB" sz="1200" spc="-1" strike="noStrike">
                <a:solidFill>
                  <a:srgbClr val="000000"/>
                </a:solidFill>
                <a:latin typeface="Arial"/>
              </a:rPr>
              <a:t>involves a minimum of government intervention to regulate trade such as taxes on imported goods and services, quotas on imported goods and services, and subsidies </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ctionist trade policies </a:t>
            </a:r>
            <a:r>
              <a:rPr b="0" lang="en-US" sz="1200" spc="-1" strike="noStrike">
                <a:solidFill>
                  <a:srgbClr val="000000"/>
                </a:solidFill>
                <a:latin typeface="Arial"/>
              </a:rPr>
              <a:t>involve government intervention in the market by regulating prices on goods and services and supply restrictions. Such government interventions generally increase the cost of goods and services to both consumers and producers. Interventions include subsidies, taxes on goods and services, and other laws regulating the economic market and investments by for example by domestic and foreign companies</a:t>
            </a:r>
            <a:endParaRPr b="0" lang="en-US" sz="1200" spc="-1" strike="noStrike">
              <a:solidFill>
                <a:srgbClr val="000000"/>
              </a:solidFill>
              <a:latin typeface="Arial"/>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hough globalisation probably is helping to create more wealth in developing countries – it is </a:t>
            </a:r>
            <a:r>
              <a:rPr b="1" lang="en-GB" sz="800" spc="-1" strike="noStrike">
                <a:solidFill>
                  <a:srgbClr val="000000"/>
                </a:solidFill>
                <a:latin typeface="Arial"/>
              </a:rPr>
              <a:t>not</a:t>
            </a:r>
            <a:r>
              <a:rPr b="0" lang="en-GB" sz="800" spc="-1" strike="noStrike">
                <a:solidFill>
                  <a:srgbClr val="000000"/>
                </a:solidFill>
                <a:latin typeface="Arial"/>
              </a:rPr>
              <a:t> helping to close the </a:t>
            </a:r>
            <a:endParaRPr b="0" lang="en-US" sz="800" spc="-1" strike="noStrike">
              <a:solidFill>
                <a:srgbClr val="000000"/>
              </a:solidFill>
              <a:latin typeface="Arial"/>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ap between the world's poorest countries and the world's riches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Multinational Corporations (MNC) </a:t>
            </a:r>
            <a:br>
              <a:rPr sz="2800"/>
            </a:br>
            <a:r>
              <a:rPr b="0" lang="nb-NO" sz="2800" spc="-1" strike="noStrike">
                <a:solidFill>
                  <a:srgbClr val="000000"/>
                </a:solidFill>
                <a:latin typeface="Arial"/>
              </a:rPr>
              <a:t>or </a:t>
            </a:r>
            <a:br>
              <a:rPr sz="2800"/>
            </a:br>
            <a:r>
              <a:rPr b="0" lang="nb-NO" sz="2800" spc="-1" strike="noStrike">
                <a:solidFill>
                  <a:srgbClr val="000000"/>
                </a:solidFill>
                <a:latin typeface="Arial"/>
              </a:rPr>
              <a:t>Transnational Corporations</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reign investment in another country: </a:t>
            </a:r>
            <a:endParaRPr b="0" lang="en-US" sz="16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lobalisation has resulted in many businesses setting up or buying services in other countries. When a foreign company invests in a country, perhaps by building a factory or a shop. </a:t>
            </a:r>
            <a:endParaRPr b="0" lang="en-US" sz="14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ultinational corporations or transnational corporations: </a:t>
            </a:r>
            <a:endParaRPr b="0" lang="en-US" sz="16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anies that operate in several countries are called multinational corporations (MNCs) or transnational corporations (TNCs)</a:t>
            </a:r>
            <a:endParaRPr b="0" lang="en-US" sz="14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se companies are in constant competition with one another to expand into new markets and increase their profits</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cDonald's</a:t>
            </a:r>
            <a:r>
              <a:rPr b="0" lang="en-GB" sz="1400" spc="-1" strike="noStrike">
                <a:solidFill>
                  <a:srgbClr val="000000"/>
                </a:solidFill>
                <a:latin typeface="Arial"/>
              </a:rPr>
              <a:t>, the US fast food chain is a large MNC:</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cDonald’s has nearly 30,000 restaurants in 119 countries</a:t>
            </a:r>
            <a:endParaRPr b="0" lang="en-US" sz="1200" spc="-1" strike="noStrike">
              <a:solidFill>
                <a:srgbClr val="000000"/>
              </a:solidFill>
              <a:latin typeface="Arial"/>
            </a:endParaRPr>
          </a:p>
          <a:p>
            <a:pPr lvl="2" marL="113148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rand names like Nike, Kellogg's, Microsoft, Sony, Adidas are recognised almost everywhere in the world (see next slide)</a:t>
            </a:r>
            <a:endParaRPr b="0" lang="en-US" sz="1200" spc="-1" strike="noStrike">
              <a:solidFill>
                <a:srgbClr val="000000"/>
              </a:solidFill>
              <a:latin typeface="Arial"/>
            </a:endParaRPr>
          </a:p>
          <a:p>
            <a:pPr lvl="2" marL="11314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st MNCs come from developed countries: </a:t>
            </a:r>
            <a:endParaRPr b="0" lang="en-US" sz="1200" spc="-1" strike="noStrike">
              <a:solidFill>
                <a:srgbClr val="000000"/>
              </a:solidFill>
              <a:latin typeface="Arial"/>
            </a:endParaRPr>
          </a:p>
          <a:p>
            <a:pPr lvl="3" marL="1584000" indent="-22608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ajority of MNCs come from more economically developed countries (MEDC) such as the US and UK. </a:t>
            </a:r>
            <a:endParaRPr b="0" lang="en-US" sz="1000" spc="-1" strike="noStrike">
              <a:solidFill>
                <a:srgbClr val="000000"/>
              </a:solidFill>
              <a:latin typeface="Arial"/>
            </a:endParaRPr>
          </a:p>
          <a:p>
            <a:pPr lvl="3" marL="1584000" indent="-22608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ultinational corporations invest in other MEDCs - the US car company Ford, for example, makes large numbers of cars in the UK. </a:t>
            </a:r>
            <a:endParaRPr b="0" lang="en-US" sz="1000" spc="-1" strike="noStrike">
              <a:solidFill>
                <a:srgbClr val="000000"/>
              </a:solidFill>
              <a:latin typeface="Arial"/>
            </a:endParaRPr>
          </a:p>
          <a:p>
            <a:pPr lvl="3" marL="1584000" indent="-22608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t MNCs also invest in less economically developed countries - for example the British DIY store B&amp;Q now has stores in China.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Multinational Corporations</a:t>
            </a:r>
            <a:br>
              <a:rPr sz="4400"/>
            </a:b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61" name="Picture 25" descr="http://www.engr.pitt.edu/electrical/faculty-staff/accheng/www/pic/news/01.2008/microsoft_logo.jpg"/>
          <p:cNvPicPr/>
          <p:nvPr/>
        </p:nvPicPr>
        <p:blipFill>
          <a:blip r:embed="rId1"/>
          <a:stretch/>
        </p:blipFill>
        <p:spPr>
          <a:xfrm>
            <a:off x="0" y="-7170840"/>
            <a:ext cx="1419120" cy="1123920"/>
          </a:xfrm>
          <a:prstGeom prst="rect">
            <a:avLst/>
          </a:prstGeom>
          <a:ln w="0">
            <a:noFill/>
          </a:ln>
        </p:spPr>
      </p:pic>
      <p:pic>
        <p:nvPicPr>
          <p:cNvPr id="62" name="Picture 24" descr="Kellogg's Logo">
            <a:hlinkClick r:id="rId2"/>
          </p:cNvPr>
          <p:cNvPicPr/>
          <p:nvPr/>
        </p:nvPicPr>
        <p:blipFill>
          <a:blip r:embed="rId3"/>
          <a:stretch/>
        </p:blipFill>
        <p:spPr>
          <a:xfrm>
            <a:off x="0" y="-6046920"/>
            <a:ext cx="2381400" cy="847800"/>
          </a:xfrm>
          <a:prstGeom prst="rect">
            <a:avLst/>
          </a:prstGeom>
          <a:ln w="0">
            <a:noFill/>
          </a:ln>
        </p:spPr>
      </p:pic>
      <p:pic>
        <p:nvPicPr>
          <p:cNvPr id="63" name="Picture 23" descr="http://tbn3.google.com/images?q=tbn:_FHD_fXGw9UIvM:http://souljerky.com/_media/AdidasLogo.jpg">
            <a:hlinkClick r:id="rId4"/>
          </p:cNvPr>
          <p:cNvPicPr/>
          <p:nvPr/>
        </p:nvPicPr>
        <p:blipFill>
          <a:blip r:embed="rId5"/>
          <a:stretch/>
        </p:blipFill>
        <p:spPr>
          <a:xfrm>
            <a:off x="0" y="-5199120"/>
            <a:ext cx="1123920" cy="1123920"/>
          </a:xfrm>
          <a:prstGeom prst="rect">
            <a:avLst/>
          </a:prstGeom>
          <a:ln w="0">
            <a:noFill/>
          </a:ln>
        </p:spPr>
      </p:pic>
      <p:pic>
        <p:nvPicPr>
          <p:cNvPr id="64" name="Picture 22" descr="http://tbn0.google.com/images?q=tbn:r0MQyj_qzZBM8M:http://www.blogcdn.com/www.walletpop.com/blog/media/2008/11/burger-king-logo.jpg">
            <a:hlinkClick r:id="rId6"/>
          </p:cNvPr>
          <p:cNvPicPr/>
          <p:nvPr/>
        </p:nvPicPr>
        <p:blipFill>
          <a:blip r:embed="rId7"/>
          <a:stretch/>
        </p:blipFill>
        <p:spPr>
          <a:xfrm>
            <a:off x="533520" y="1905120"/>
            <a:ext cx="1152360" cy="1152360"/>
          </a:xfrm>
          <a:prstGeom prst="rect">
            <a:avLst/>
          </a:prstGeom>
          <a:ln w="0">
            <a:noFill/>
          </a:ln>
        </p:spPr>
      </p:pic>
      <p:pic>
        <p:nvPicPr>
          <p:cNvPr id="65" name="Picture 21" descr="http://tbn0.google.com/images?q=tbn:bOhswDoV1KvvlM:http://www1.hilton.com/brand/hi/media/images/logos/logo_300x300.gif">
            <a:hlinkClick r:id="rId8"/>
          </p:cNvPr>
          <p:cNvPicPr/>
          <p:nvPr/>
        </p:nvPicPr>
        <p:blipFill>
          <a:blip r:embed="rId9"/>
          <a:stretch/>
        </p:blipFill>
        <p:spPr>
          <a:xfrm>
            <a:off x="1981080" y="1752480"/>
            <a:ext cx="1105200" cy="1105200"/>
          </a:xfrm>
          <a:prstGeom prst="rect">
            <a:avLst/>
          </a:prstGeom>
          <a:ln w="0">
            <a:noFill/>
          </a:ln>
        </p:spPr>
      </p:pic>
      <p:pic>
        <p:nvPicPr>
          <p:cNvPr id="66" name="Picture 20" descr="http://tbn0.google.com/images?q=tbn:mQZMK-8d8nzJTM:http://www.splendicity.com/hotmamadaily/files/2007/07/logo_loreal.jpg">
            <a:hlinkClick r:id="rId10"/>
          </p:cNvPr>
          <p:cNvPicPr/>
          <p:nvPr/>
        </p:nvPicPr>
        <p:blipFill>
          <a:blip r:embed="rId11"/>
          <a:stretch/>
        </p:blipFill>
        <p:spPr>
          <a:xfrm>
            <a:off x="3733920" y="1828800"/>
            <a:ext cx="1104840" cy="828720"/>
          </a:xfrm>
          <a:prstGeom prst="rect">
            <a:avLst/>
          </a:prstGeom>
          <a:ln w="0">
            <a:noFill/>
          </a:ln>
        </p:spPr>
      </p:pic>
      <p:pic>
        <p:nvPicPr>
          <p:cNvPr id="67" name="Picture 19" descr="http://tbn2.google.com/images?q=tbn:OgJevYDuabCM4M:http://api.ning.com/files/8wsCfYsVpx4NeSt7qEmC0VwLyZmsL2cMYwxNbDwE-bRtvb3flD1ak7umZcKFFXnnKxmq1SCeJZMwQ6Qm8dPqj3yE1vhdL*cJ/AppleMacintoshLogo2.jpg">
            <a:hlinkClick r:id="rId12"/>
          </p:cNvPr>
          <p:cNvPicPr/>
          <p:nvPr/>
        </p:nvPicPr>
        <p:blipFill>
          <a:blip r:embed="rId13"/>
          <a:stretch/>
        </p:blipFill>
        <p:spPr>
          <a:xfrm>
            <a:off x="5486400" y="1371600"/>
            <a:ext cx="1324080" cy="1428840"/>
          </a:xfrm>
          <a:prstGeom prst="rect">
            <a:avLst/>
          </a:prstGeom>
          <a:ln w="0">
            <a:noFill/>
          </a:ln>
        </p:spPr>
      </p:pic>
      <p:pic>
        <p:nvPicPr>
          <p:cNvPr id="68" name="Picture 18" descr="http://tbn3.google.com/images?q=tbn:k7mrHAwRK0Qe8M:http://www.jamzmedia.com/images/logo%2520pepsi.jpg">
            <a:hlinkClick r:id="rId14"/>
          </p:cNvPr>
          <p:cNvPicPr/>
          <p:nvPr/>
        </p:nvPicPr>
        <p:blipFill>
          <a:blip r:embed="rId15"/>
          <a:stretch/>
        </p:blipFill>
        <p:spPr>
          <a:xfrm>
            <a:off x="1905120" y="3200400"/>
            <a:ext cx="1209600" cy="838080"/>
          </a:xfrm>
          <a:prstGeom prst="rect">
            <a:avLst/>
          </a:prstGeom>
          <a:ln w="0">
            <a:noFill/>
          </a:ln>
        </p:spPr>
      </p:pic>
      <p:pic>
        <p:nvPicPr>
          <p:cNvPr id="69" name="Picture 17" descr="http://tbn2.google.com/images?q=tbn:OKE-1yzGfwZUtM:http://www.noldus.com/mb2005/logo_j_and_j.jpg">
            <a:hlinkClick r:id="rId16"/>
          </p:cNvPr>
          <p:cNvPicPr/>
          <p:nvPr/>
        </p:nvPicPr>
        <p:blipFill>
          <a:blip r:embed="rId17"/>
          <a:stretch/>
        </p:blipFill>
        <p:spPr>
          <a:xfrm>
            <a:off x="609480" y="4648320"/>
            <a:ext cx="1219320" cy="1057320"/>
          </a:xfrm>
          <a:prstGeom prst="rect">
            <a:avLst/>
          </a:prstGeom>
          <a:ln w="0">
            <a:noFill/>
          </a:ln>
        </p:spPr>
      </p:pic>
      <p:pic>
        <p:nvPicPr>
          <p:cNvPr id="70" name="Picture 16" descr="http://tbn3.google.com/images?q=tbn:MZwz6r-osksOlM:http://german-autohaus.com/files/QuickSiteImages/logo_mercedes.jpg">
            <a:hlinkClick r:id="rId18"/>
          </p:cNvPr>
          <p:cNvPicPr/>
          <p:nvPr/>
        </p:nvPicPr>
        <p:blipFill>
          <a:blip r:embed="rId19"/>
          <a:stretch/>
        </p:blipFill>
        <p:spPr>
          <a:xfrm>
            <a:off x="3352680" y="4495680"/>
            <a:ext cx="943200" cy="1105200"/>
          </a:xfrm>
          <a:prstGeom prst="rect">
            <a:avLst/>
          </a:prstGeom>
          <a:ln w="0">
            <a:noFill/>
          </a:ln>
        </p:spPr>
      </p:pic>
      <p:pic>
        <p:nvPicPr>
          <p:cNvPr id="71" name="Picture 15" descr="http://tbn2.google.com/images?q=tbn:VEaqhjxNT8GMTM:http://www.brandsoftheworld.com/brands/0000/3733/brand.gif">
            <a:hlinkClick r:id="rId20"/>
          </p:cNvPr>
          <p:cNvPicPr/>
          <p:nvPr/>
        </p:nvPicPr>
        <p:blipFill>
          <a:blip r:embed="rId21"/>
          <a:stretch/>
        </p:blipFill>
        <p:spPr>
          <a:xfrm>
            <a:off x="2133720" y="4648320"/>
            <a:ext cx="990360" cy="990360"/>
          </a:xfrm>
          <a:prstGeom prst="rect">
            <a:avLst/>
          </a:prstGeom>
          <a:ln w="0">
            <a:noFill/>
          </a:ln>
        </p:spPr>
      </p:pic>
      <p:pic>
        <p:nvPicPr>
          <p:cNvPr id="72" name="Picture 14" descr="http://tbn1.google.com/images?q=tbn:-1C9oPt3Gl2m2M:http://www.isdykk.no/mSpider/_data/bildearkiv/m1172612271.jpg">
            <a:hlinkClick r:id="rId22"/>
          </p:cNvPr>
          <p:cNvPicPr/>
          <p:nvPr/>
        </p:nvPicPr>
        <p:blipFill>
          <a:blip r:embed="rId23"/>
          <a:stretch/>
        </p:blipFill>
        <p:spPr>
          <a:xfrm>
            <a:off x="7315200" y="2895480"/>
            <a:ext cx="1238400" cy="1238400"/>
          </a:xfrm>
          <a:prstGeom prst="rect">
            <a:avLst/>
          </a:prstGeom>
          <a:ln w="0">
            <a:noFill/>
          </a:ln>
        </p:spPr>
      </p:pic>
      <p:pic>
        <p:nvPicPr>
          <p:cNvPr id="73" name="Picture 13" descr="http://tbn1.google.com/images?q=tbn:ZFTFk0zGsRVdFM:http://myownspace.fr/myownpic/715/lidl-logo.gif">
            <a:hlinkClick r:id="rId24"/>
          </p:cNvPr>
          <p:cNvPicPr/>
          <p:nvPr/>
        </p:nvPicPr>
        <p:blipFill>
          <a:blip r:embed="rId25"/>
          <a:stretch/>
        </p:blipFill>
        <p:spPr>
          <a:xfrm>
            <a:off x="4648320" y="4495680"/>
            <a:ext cx="1114200" cy="1105200"/>
          </a:xfrm>
          <a:prstGeom prst="rect">
            <a:avLst/>
          </a:prstGeom>
          <a:ln w="0">
            <a:noFill/>
          </a:ln>
        </p:spPr>
      </p:pic>
      <p:pic>
        <p:nvPicPr>
          <p:cNvPr id="74" name="Picture 12" descr="http://tbn1.google.com/images?q=tbn:1G1ddYaW-3318M:http://www.runpacers.com/images/logo_nike.jpg">
            <a:hlinkClick r:id="rId26"/>
          </p:cNvPr>
          <p:cNvPicPr/>
          <p:nvPr/>
        </p:nvPicPr>
        <p:blipFill>
          <a:blip r:embed="rId27"/>
          <a:stretch/>
        </p:blipFill>
        <p:spPr>
          <a:xfrm>
            <a:off x="457200" y="3581280"/>
            <a:ext cx="1247760" cy="723960"/>
          </a:xfrm>
          <a:prstGeom prst="rect">
            <a:avLst/>
          </a:prstGeom>
          <a:ln w="0">
            <a:noFill/>
          </a:ln>
        </p:spPr>
      </p:pic>
      <p:pic>
        <p:nvPicPr>
          <p:cNvPr id="75" name="Picture 10" descr="http://tbn1.google.com/images?q=tbn:rMNlbxoHzMAeaM:http://api.ning.com/files/8qKmChITJaPALLFidCH2oiCOMbWvqbf6*GDL4mBruI15AepG3DDq9PGxD8x8HK0SDCv1qckGpwZ9BLY*WFnGkbniVQyPGdsC/img_31463_canon_logo.jpg">
            <a:hlinkClick r:id="rId28"/>
          </p:cNvPr>
          <p:cNvPicPr/>
          <p:nvPr/>
        </p:nvPicPr>
        <p:blipFill>
          <a:blip r:embed="rId29"/>
          <a:stretch/>
        </p:blipFill>
        <p:spPr>
          <a:xfrm>
            <a:off x="3276720" y="2895480"/>
            <a:ext cx="1266840" cy="1266840"/>
          </a:xfrm>
          <a:prstGeom prst="rect">
            <a:avLst/>
          </a:prstGeom>
          <a:ln w="0">
            <a:noFill/>
          </a:ln>
        </p:spPr>
      </p:pic>
      <p:pic>
        <p:nvPicPr>
          <p:cNvPr id="76" name="Picture 9" descr="http://tbn1.google.com/images?q=tbn:Qm9N1QQBSDtCgM:http://i-mode.o2.co.uk/images/logo_cnn2.gif">
            <a:hlinkClick r:id="rId30"/>
          </p:cNvPr>
          <p:cNvPicPr/>
          <p:nvPr/>
        </p:nvPicPr>
        <p:blipFill>
          <a:blip r:embed="rId31"/>
          <a:stretch/>
        </p:blipFill>
        <p:spPr>
          <a:xfrm>
            <a:off x="5943600" y="4572000"/>
            <a:ext cx="866880" cy="828720"/>
          </a:xfrm>
          <a:prstGeom prst="rect">
            <a:avLst/>
          </a:prstGeom>
          <a:ln w="0">
            <a:noFill/>
          </a:ln>
        </p:spPr>
      </p:pic>
      <p:pic>
        <p:nvPicPr>
          <p:cNvPr id="77" name="Picture 8" descr="http://tbn1.google.com/images?q=tbn:E_Tl4KVRUQcDQM:http://www.pycomall.com/images/P/Disney_Pictures_logo.jpg">
            <a:hlinkClick r:id="rId32"/>
          </p:cNvPr>
          <p:cNvPicPr/>
          <p:nvPr/>
        </p:nvPicPr>
        <p:blipFill>
          <a:blip r:embed="rId33"/>
          <a:stretch/>
        </p:blipFill>
        <p:spPr>
          <a:xfrm>
            <a:off x="4724280" y="2971800"/>
            <a:ext cx="1181160" cy="1181160"/>
          </a:xfrm>
          <a:prstGeom prst="rect">
            <a:avLst/>
          </a:prstGeom>
          <a:ln w="0">
            <a:noFill/>
          </a:ln>
        </p:spPr>
      </p:pic>
      <p:pic>
        <p:nvPicPr>
          <p:cNvPr id="78" name="Picture 7" descr="http://tbn3.google.com/images?q=tbn:JI8LoN0Xyts54M:http://www.ameinfo.com/images/press/panasonic_logo.jpg">
            <a:hlinkClick r:id="rId34"/>
          </p:cNvPr>
          <p:cNvPicPr/>
          <p:nvPr/>
        </p:nvPicPr>
        <p:blipFill>
          <a:blip r:embed="rId35"/>
          <a:stretch/>
        </p:blipFill>
        <p:spPr>
          <a:xfrm>
            <a:off x="7086600" y="4800600"/>
            <a:ext cx="942840" cy="619200"/>
          </a:xfrm>
          <a:prstGeom prst="rect">
            <a:avLst/>
          </a:prstGeom>
          <a:ln w="0">
            <a:noFill/>
          </a:ln>
        </p:spPr>
      </p:pic>
      <p:pic>
        <p:nvPicPr>
          <p:cNvPr id="79" name="Picture 6" descr="http://tbn1.google.com/images?q=tbn:ysmFZh8TgS_QkM:http://www.corcoran.org/exhibitions/images/chermayeff/Mobil_logo.jpg"/>
          <p:cNvPicPr/>
          <p:nvPr/>
        </p:nvPicPr>
        <p:blipFill>
          <a:blip r:embed="rId36"/>
          <a:stretch/>
        </p:blipFill>
        <p:spPr>
          <a:xfrm>
            <a:off x="6019920" y="2971800"/>
            <a:ext cx="1181160" cy="1181160"/>
          </a:xfrm>
          <a:prstGeom prst="rect">
            <a:avLst/>
          </a:prstGeom>
          <a:ln w="0">
            <a:noFill/>
          </a:ln>
        </p:spPr>
      </p:pic>
      <p:sp>
        <p:nvSpPr>
          <p:cNvPr id="80" name="Rectangle 26"/>
          <p:cNvSpPr/>
          <p:nvPr/>
        </p:nvSpPr>
        <p:spPr>
          <a:xfrm>
            <a:off x="0" y="-7170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7"/>
          <p:cNvSpPr/>
          <p:nvPr/>
        </p:nvSpPr>
        <p:spPr>
          <a:xfrm>
            <a:off x="0" y="-604692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28"/>
          <p:cNvSpPr/>
          <p:nvPr/>
        </p:nvSpPr>
        <p:spPr>
          <a:xfrm>
            <a:off x="0" y="-5199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29"/>
          <p:cNvSpPr/>
          <p:nvPr/>
        </p:nvSpPr>
        <p:spPr>
          <a:xfrm>
            <a:off x="0" y="-40752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30"/>
          <p:cNvSpPr/>
          <p:nvPr/>
        </p:nvSpPr>
        <p:spPr>
          <a:xfrm>
            <a:off x="0" y="-292248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31"/>
          <p:cNvSpPr/>
          <p:nvPr/>
        </p:nvSpPr>
        <p:spPr>
          <a:xfrm>
            <a:off x="0" y="-1817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32"/>
          <p:cNvSpPr/>
          <p:nvPr/>
        </p:nvSpPr>
        <p:spPr>
          <a:xfrm>
            <a:off x="0" y="-98892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33"/>
          <p:cNvSpPr/>
          <p:nvPr/>
        </p:nvSpPr>
        <p:spPr>
          <a:xfrm>
            <a:off x="0" y="439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4"/>
          <p:cNvSpPr/>
          <p:nvPr/>
        </p:nvSpPr>
        <p:spPr>
          <a:xfrm>
            <a:off x="0" y="1278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35"/>
          <p:cNvSpPr/>
          <p:nvPr/>
        </p:nvSpPr>
        <p:spPr>
          <a:xfrm>
            <a:off x="2286000" y="38862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36"/>
          <p:cNvSpPr/>
          <p:nvPr/>
        </p:nvSpPr>
        <p:spPr>
          <a:xfrm>
            <a:off x="0" y="3440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37"/>
          <p:cNvSpPr/>
          <p:nvPr/>
        </p:nvSpPr>
        <p:spPr>
          <a:xfrm>
            <a:off x="0" y="443088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38"/>
          <p:cNvSpPr/>
          <p:nvPr/>
        </p:nvSpPr>
        <p:spPr>
          <a:xfrm>
            <a:off x="0" y="566892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39"/>
          <p:cNvSpPr/>
          <p:nvPr/>
        </p:nvSpPr>
        <p:spPr>
          <a:xfrm>
            <a:off x="0" y="67737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0"/>
          <p:cNvSpPr/>
          <p:nvPr/>
        </p:nvSpPr>
        <p:spPr>
          <a:xfrm>
            <a:off x="0" y="749772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41"/>
          <p:cNvSpPr/>
          <p:nvPr/>
        </p:nvSpPr>
        <p:spPr>
          <a:xfrm>
            <a:off x="0" y="867888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42"/>
          <p:cNvSpPr/>
          <p:nvPr/>
        </p:nvSpPr>
        <p:spPr>
          <a:xfrm>
            <a:off x="0" y="9945000"/>
            <a:ext cx="91440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Rectangle 43"/>
          <p:cNvSpPr/>
          <p:nvPr/>
        </p:nvSpPr>
        <p:spPr>
          <a:xfrm>
            <a:off x="0" y="1104912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44"/>
          <p:cNvSpPr/>
          <p:nvPr/>
        </p:nvSpPr>
        <p:spPr>
          <a:xfrm>
            <a:off x="0" y="1223028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5"/>
          <p:cNvSpPr/>
          <p:nvPr/>
        </p:nvSpPr>
        <p:spPr>
          <a:xfrm>
            <a:off x="0" y="1284912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actors Attracting MNCs to a Country</a:t>
            </a:r>
            <a:endParaRPr b="0" lang="en-US" sz="3200" spc="-1" strike="noStrike">
              <a:solidFill>
                <a:srgbClr val="000000"/>
              </a:solidFill>
              <a:latin typeface="Arial"/>
            </a:endParaRPr>
          </a:p>
        </p:txBody>
      </p:sp>
      <p:sp>
        <p:nvSpPr>
          <p:cNvPr id="1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eap raw material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eap labour supp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od transpor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ess to market, where the goods are sol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iendly government polici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ntri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a, South America Asia in general</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Picture 9" descr="untitled j"/>
          <p:cNvPicPr/>
          <p:nvPr/>
        </p:nvPicPr>
        <p:blipFill>
          <a:blip r:embed="rId1"/>
          <a:stretch/>
        </p:blipFill>
        <p:spPr>
          <a:xfrm>
            <a:off x="5089680" y="1600200"/>
            <a:ext cx="315576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Positive Impacts of Globalisation</a:t>
            </a:r>
            <a:br>
              <a:rPr sz="4000"/>
            </a:br>
            <a:endParaRPr b="0" lang="en-US" sz="4000" spc="-1" strike="noStrike">
              <a:solidFill>
                <a:srgbClr val="000000"/>
              </a:solidFill>
              <a:latin typeface="Arial"/>
            </a:endParaRPr>
          </a:p>
        </p:txBody>
      </p:sp>
      <p:sp>
        <p:nvSpPr>
          <p:cNvPr id="104"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roved standard of living: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vestment by MNCs helps countries by providing </a:t>
            </a:r>
            <a:r>
              <a:rPr b="1" lang="en-GB" sz="1000" spc="-1" strike="noStrike">
                <a:solidFill>
                  <a:srgbClr val="000000"/>
                </a:solidFill>
                <a:latin typeface="Arial"/>
              </a:rPr>
              <a:t>new</a:t>
            </a:r>
            <a:r>
              <a:rPr b="0" lang="en-GB" sz="1000" spc="-1" strike="noStrike">
                <a:solidFill>
                  <a:srgbClr val="000000"/>
                </a:solidFill>
                <a:latin typeface="Arial"/>
              </a:rPr>
              <a:t> </a:t>
            </a:r>
            <a:r>
              <a:rPr b="1" lang="en-GB" sz="1000" spc="-1" strike="noStrike">
                <a:solidFill>
                  <a:srgbClr val="000000"/>
                </a:solidFill>
                <a:latin typeface="Arial"/>
              </a:rPr>
              <a:t>jobs</a:t>
            </a:r>
            <a:r>
              <a:rPr b="0" lang="en-GB" sz="1000" spc="-1" strike="noStrike">
                <a:solidFill>
                  <a:srgbClr val="000000"/>
                </a:solidFill>
                <a:latin typeface="Arial"/>
              </a:rPr>
              <a:t> </a:t>
            </a:r>
            <a:r>
              <a:rPr b="1" lang="en-GB" sz="1000" spc="-1" strike="noStrike">
                <a:solidFill>
                  <a:srgbClr val="000000"/>
                </a:solidFill>
                <a:latin typeface="Arial"/>
              </a:rPr>
              <a:t>and</a:t>
            </a:r>
            <a:r>
              <a:rPr b="0" lang="en-GB" sz="1000" spc="-1" strike="noStrike">
                <a:solidFill>
                  <a:srgbClr val="000000"/>
                </a:solidFill>
                <a:latin typeface="Arial"/>
              </a:rPr>
              <a:t> </a:t>
            </a:r>
            <a:r>
              <a:rPr b="1" lang="en-GB" sz="1000" spc="-1" strike="noStrike">
                <a:solidFill>
                  <a:srgbClr val="000000"/>
                </a:solidFill>
                <a:latin typeface="Arial"/>
              </a:rPr>
              <a:t>skills</a:t>
            </a:r>
            <a:r>
              <a:rPr b="0" lang="en-GB" sz="1000" spc="-1" strike="noStrike">
                <a:solidFill>
                  <a:srgbClr val="000000"/>
                </a:solidFill>
                <a:latin typeface="Arial"/>
              </a:rPr>
              <a:t> for local people. </a:t>
            </a:r>
            <a:endParaRPr b="0" lang="en-US" sz="1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re wealth to local economies: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Cs bring</a:t>
            </a:r>
            <a:r>
              <a:rPr b="1" lang="en-GB" sz="1000" spc="-1" strike="noStrike">
                <a:solidFill>
                  <a:srgbClr val="000000"/>
                </a:solidFill>
                <a:latin typeface="Arial"/>
              </a:rPr>
              <a:t> wealth / foreign currency </a:t>
            </a:r>
            <a:r>
              <a:rPr b="0" lang="en-GB" sz="1000" spc="-1" strike="noStrike">
                <a:solidFill>
                  <a:srgbClr val="000000"/>
                </a:solidFill>
                <a:latin typeface="Arial"/>
              </a:rPr>
              <a:t>to local economies when they buy local resources, products and services - providing resources for education, health and infrastructure.</a:t>
            </a:r>
            <a:endParaRPr b="0" lang="en-US" sz="1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ultural exchange and contact: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far more mixing of people and cultures from all over the world, enabling more sharing of ideas, experiences, and lifestyles.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ople can experience foods and other products not previously available in their countries.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way globalization may diminish cultural barriers between people, and make people more open-minded to other cultures and knowledgeable. </a:t>
            </a:r>
            <a:endParaRPr b="0" lang="en-US" sz="1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reater awareness: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isation can help make people aware of events in far-away parts of the worl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example, people in Norway were quickly aware of the impact of the 2004 Tsunami tidal wave on countries in South East Asia, and were therefore able to send help rapidly.</a:t>
            </a:r>
            <a:endParaRPr b="0" lang="en-US" sz="1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lobal cooperation/aid: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may help make people more aware of global issues such as </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obal warming</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verty</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trafficking</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rorism, etc. </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alert them to the need for </a:t>
            </a:r>
            <a:r>
              <a:rPr b="1" lang="en-GB" sz="1200" spc="-1" strike="noStrike">
                <a:solidFill>
                  <a:srgbClr val="000000"/>
                </a:solidFill>
                <a:latin typeface="Arial"/>
              </a:rPr>
              <a:t>sustainable</a:t>
            </a:r>
            <a:r>
              <a:rPr b="0" lang="en-GB" sz="1200" spc="-1" strike="noStrike">
                <a:solidFill>
                  <a:srgbClr val="000000"/>
                </a:solidFill>
                <a:latin typeface="Arial"/>
              </a:rPr>
              <a:t> </a:t>
            </a:r>
            <a:r>
              <a:rPr b="1" lang="en-GB" sz="1200" spc="-1" strike="noStrike">
                <a:solidFill>
                  <a:srgbClr val="000000"/>
                </a:solidFill>
                <a:latin typeface="Arial"/>
              </a:rPr>
              <a:t>development</a:t>
            </a:r>
            <a:r>
              <a:rPr b="0" lang="en-GB" sz="1200" spc="-1" strike="noStrike">
                <a:solidFill>
                  <a:srgbClr val="000000"/>
                </a:solidFill>
                <a:latin typeface="Arial"/>
              </a:rPr>
              <a:t> (bærekraftig utviklin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Arial"/>
              </a:rPr>
              <a:t>Negative Impacts of Globalisation</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all people think that globalisation is such a great idea. Critics include many different groups such a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alists</a:t>
            </a:r>
            <a:r>
              <a:rPr b="0" lang="en-GB" sz="1200" spc="-1" strike="noStrike">
                <a:solidFill>
                  <a:srgbClr val="000000"/>
                </a:solidFill>
                <a:latin typeface="Arial"/>
              </a:rPr>
              <a:t>, anti-poverty campaigners and </a:t>
            </a:r>
            <a:r>
              <a:rPr b="1" lang="en-GB" sz="1200" spc="-1" strike="noStrike">
                <a:solidFill>
                  <a:srgbClr val="000000"/>
                </a:solidFill>
                <a:latin typeface="Arial"/>
              </a:rPr>
              <a:t>trade-unionists</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me of the negative impacts they point to a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loitation of developing countries: </a:t>
            </a:r>
            <a:r>
              <a:rPr b="0" lang="en-GB" sz="1200" spc="-1" strike="noStrike">
                <a:solidFill>
                  <a:srgbClr val="000000"/>
                </a:solidFill>
                <a:latin typeface="Arial"/>
              </a:rPr>
              <a:t>Globalisation operates mostly in the interests of the richest countries which continue to dominate world trade, and at the expense of developing countries - whose role in the world market is mostly to provide the North and West with cheap labour and raw material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nemployment and ousting of local businesses: </a:t>
            </a:r>
            <a:r>
              <a:rPr b="0" lang="en-GB" sz="1200" spc="-1" strike="noStrike">
                <a:solidFill>
                  <a:srgbClr val="000000"/>
                </a:solidFill>
                <a:latin typeface="Arial"/>
              </a:rPr>
              <a:t>There are no guarantees that the wealth from inward investment will benefit the local community. Often, profits are sent back to the MEDC where the MNC is based. Multinational companies, with their massive </a:t>
            </a:r>
            <a:r>
              <a:rPr b="1" lang="en-GB" sz="1200" spc="-1" strike="noStrike">
                <a:solidFill>
                  <a:srgbClr val="000000"/>
                </a:solidFill>
                <a:latin typeface="Arial"/>
              </a:rPr>
              <a:t>economies of scale</a:t>
            </a:r>
            <a:r>
              <a:rPr b="0" lang="en-GB" sz="1200" spc="-1" strike="noStrike">
                <a:solidFill>
                  <a:srgbClr val="000000"/>
                </a:solidFill>
                <a:latin typeface="Arial"/>
              </a:rPr>
              <a:t>, may drive local companies out of business. If it becomes cheaper to operate in another country the MNC might close down the factory and make local people redundan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iolation of international laws: </a:t>
            </a:r>
            <a:r>
              <a:rPr b="0" lang="en-GB" sz="1200" spc="-1" strike="noStrike">
                <a:solidFill>
                  <a:srgbClr val="000000"/>
                </a:solidFill>
                <a:latin typeface="Arial"/>
              </a:rPr>
              <a:t>Lack of strictly enforced international laws means that MNCs may operate in a way that would not be allowed in an MEDC - for example polluting the environment, running risks with safety or imposing poor working conditions and low wages on local worker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 threat to cultural diversity: </a:t>
            </a:r>
            <a:r>
              <a:rPr b="0" lang="en-GB" sz="1200" spc="-1" strike="noStrike">
                <a:solidFill>
                  <a:srgbClr val="000000"/>
                </a:solidFill>
                <a:latin typeface="Arial"/>
              </a:rPr>
              <a:t>Globalisation is viewed by many as a threat to the world's cultural diversity - drowning out local economies, traditions and languages and re-casting the whole world in the mould of the capitalist North and West. An example is that a Hollywood film is far more likely to be successful worldwide than one made in India or China, which also have thriving film industri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i-globalisation campaigners sometimes try to draw people's attention to these points by demonstrating against th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rld Trade Organisation</a:t>
            </a:r>
            <a:r>
              <a:rPr b="0" lang="en-GB" sz="1200" spc="-1" strike="noStrike">
                <a:solidFill>
                  <a:srgbClr val="000000"/>
                </a:solidFill>
                <a:latin typeface="Arial"/>
              </a:rPr>
              <a:t>, an inter-governmental organisation which promotes the free-flow of trade around th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ina</cp:lastModifiedBy>
  <dcterms:modified xsi:type="dcterms:W3CDTF">2009-12-01T00:06:14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